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A7B9-EC07-427C-9507-C34CF59CF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8200-A372-44D5-9618-F320AEBBE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BA62-FD5E-479E-BAC2-FE763BFD6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3F3-925C-46E5-846C-13DF55E2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8AB-A2C5-431F-90D1-BC7B4F44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F75B-9B64-4697-99AA-FBC5A2C1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D921-335C-416F-A8EA-8FAB25C4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7263-3C07-486E-A37C-AA847A9F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E0F-D5BE-4F3D-809D-51C04E33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473D-C901-443D-991C-5BDFF316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269-A7A4-4DC8-AD32-2E68484E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343A-2A88-4D13-BFB5-F9B2899B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1EFB-48DB-4324-8B1F-7CF4449B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FBE6-EA36-4CCF-9D1C-3D870B47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171-490F-4FA0-B3BB-69A2BA58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ECB0-65B6-4701-9709-D4B4FD6F4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3.png"/><Relationship Id="rId10" Type="http://schemas.openxmlformats.org/officeDocument/2006/relationships/image" Target="../media/image9.png"/><Relationship Id="rId11" Type="http://schemas.openxmlformats.org/officeDocument/2006/relationships/image" Target="../media/image16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abriela Cuau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abriela Cuau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Gabriela Cuaut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Gabriela Cuaut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Gabriela Cuaut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67652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05320"/>
            <a:ext cx="17528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, mi nombre es Gabriela! Vivo en la Ciudad de Nueva York. Tengo 14 años. Tengo un hermano menor. Soy bonita y no soy al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in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743200" y="3733920"/>
            <a:ext cx="30733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Carm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¡Mucho gusto! ¿Quieres ir a patinar ho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Noviembre 23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124080"/>
            <a:ext cx="36576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Gabriel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¡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Si, me gustaría much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:   30 minutes ago   Noviembre 26, de 2012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Ja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¡Buenos días! ¿Quieres ir a mi casa ho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Te gusta : Commentario:      1 hour ago.     Diciembre 3, de 201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4267080"/>
            <a:ext cx="373392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Gabri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i, será muy divertid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12  minutes ago  Noviembre 21, de 201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666880" y="4876920"/>
            <a:ext cx="441972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tardes, tengo que decirte alg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Noviembre 20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548640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Gabri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, envíame un mensaje y me lo dic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Noviembre 19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y es un buen dia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28600" y="5029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Screen Shot 2012-12-06 at 9.38.17 AM.png"/>
          <p:cNvPicPr/>
          <p:nvPr/>
        </p:nvPicPr>
        <p:blipFill>
          <a:blip r:embed="rId1"/>
          <a:stretch/>
        </p:blipFill>
        <p:spPr>
          <a:xfrm>
            <a:off x="2114640" y="3730680"/>
            <a:ext cx="531720" cy="1012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Screen Shot 2012-12-06 at 9.39.18 AM.png"/>
          <p:cNvPicPr/>
          <p:nvPr/>
        </p:nvPicPr>
        <p:blipFill>
          <a:blip r:embed="rId2"/>
          <a:stretch/>
        </p:blipFill>
        <p:spPr>
          <a:xfrm>
            <a:off x="2114640" y="2511360"/>
            <a:ext cx="542880" cy="1090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1" descr="Screen Shot 2012-12-06 at 9.39.18 AM.png"/>
          <p:cNvPicPr/>
          <p:nvPr/>
        </p:nvPicPr>
        <p:blipFill>
          <a:blip r:embed="rId3"/>
          <a:stretch/>
        </p:blipFill>
        <p:spPr>
          <a:xfrm>
            <a:off x="212760" y="4572000"/>
            <a:ext cx="536400" cy="1085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8" descr="Screen Shot 2012-12-06 at 9.40.26 AM.png"/>
          <p:cNvPicPr/>
          <p:nvPr/>
        </p:nvPicPr>
        <p:blipFill>
          <a:blip r:embed="rId4"/>
          <a:stretch/>
        </p:blipFill>
        <p:spPr>
          <a:xfrm>
            <a:off x="822240" y="4572000"/>
            <a:ext cx="500040" cy="963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0" descr="Screen Shot 2012-12-06 at 9.39.25 AM.png"/>
          <p:cNvPicPr/>
          <p:nvPr/>
        </p:nvPicPr>
        <p:blipFill>
          <a:blip r:embed="rId5"/>
          <a:stretch/>
        </p:blipFill>
        <p:spPr>
          <a:xfrm>
            <a:off x="1352520" y="4645080"/>
            <a:ext cx="457200" cy="1042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Photo on 12-6-12 at 9.33 AM.jpg"/>
          <p:cNvPicPr/>
          <p:nvPr/>
        </p:nvPicPr>
        <p:blipFill>
          <a:blip r:embed="rId6"/>
          <a:stretch/>
        </p:blipFill>
        <p:spPr>
          <a:xfrm>
            <a:off x="2114640" y="4876920"/>
            <a:ext cx="525240" cy="933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1" descr="Photo on 12-6-12 at 9.33 AM.jpg"/>
          <p:cNvPicPr/>
          <p:nvPr/>
        </p:nvPicPr>
        <p:blipFill>
          <a:blip r:embed="rId7"/>
          <a:stretch/>
        </p:blipFill>
        <p:spPr>
          <a:xfrm>
            <a:off x="212760" y="5559480"/>
            <a:ext cx="519120" cy="938160"/>
          </a:xfrm>
          <a:prstGeom prst="rect">
            <a:avLst/>
          </a:prstGeom>
          <a:ln w="0">
            <a:noFill/>
          </a:ln>
        </p:spPr>
      </p:pic>
      <p:sp>
        <p:nvSpPr>
          <p:cNvPr id="99" name="TextBox 9"/>
          <p:cNvSpPr/>
          <p:nvPr/>
        </p:nvSpPr>
        <p:spPr>
          <a:xfrm>
            <a:off x="152280" y="609588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Screen Shot 2012-12-07 at 9.39.59 AM.png"/>
          <p:cNvPicPr/>
          <p:nvPr/>
        </p:nvPicPr>
        <p:blipFill>
          <a:blip r:embed="rId8"/>
          <a:stretch/>
        </p:blipFill>
        <p:spPr>
          <a:xfrm>
            <a:off x="212760" y="530280"/>
            <a:ext cx="1493640" cy="3529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9" descr="Screen Shot 2012-12-07 at 9.39.59 AM.png"/>
          <p:cNvPicPr/>
          <p:nvPr/>
        </p:nvPicPr>
        <p:blipFill>
          <a:blip r:embed="rId9"/>
          <a:stretch/>
        </p:blipFill>
        <p:spPr>
          <a:xfrm>
            <a:off x="2193840" y="3121200"/>
            <a:ext cx="50004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0" descr="Screen Shot 2012-12-07 at 9.39.59 AM.png"/>
          <p:cNvPicPr/>
          <p:nvPr/>
        </p:nvPicPr>
        <p:blipFill>
          <a:blip r:embed="rId10"/>
          <a:stretch/>
        </p:blipFill>
        <p:spPr>
          <a:xfrm>
            <a:off x="2114640" y="4267080"/>
            <a:ext cx="506160" cy="1146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2" descr="Screen Shot 2012-12-07 at 9.39.59 AM.png"/>
          <p:cNvPicPr/>
          <p:nvPr/>
        </p:nvPicPr>
        <p:blipFill>
          <a:blip r:embed="rId11"/>
          <a:stretch/>
        </p:blipFill>
        <p:spPr>
          <a:xfrm>
            <a:off x="2114640" y="5407200"/>
            <a:ext cx="5061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abriela Cuau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abriela Cuau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Gabriela Cuaut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Gabriela Cuaut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Gabriela Cuaut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7"/>
          <p:cNvSpPr/>
          <p:nvPr/>
        </p:nvSpPr>
        <p:spPr>
          <a:xfrm>
            <a:off x="152280" y="3505320"/>
            <a:ext cx="17528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, mi nombre es Gabriela! Vivo en la Ciudad de Nueva York. Tengo 14 años. Tengo un hermano menor. Soy bonita y no soy al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in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2743200" y="320040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Gabriel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¡Gracias! ¡Eres muy amable, Ayat!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Noviembre 2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Ay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Gabriela! Me gustan tus zapatos que te pusiste en la escuela hoy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Diciembre 3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y es un buen dia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228600" y="5029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Screen Shot 2012-12-06 at 9.39.25 AM.png"/>
          <p:cNvPicPr/>
          <p:nvPr/>
        </p:nvPicPr>
        <p:blipFill>
          <a:blip r:embed="rId1"/>
          <a:stretch/>
        </p:blipFill>
        <p:spPr>
          <a:xfrm>
            <a:off x="2193840" y="2438280"/>
            <a:ext cx="457200" cy="1036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1" descr="Screen Shot 2012-12-06 at 9.39.18 AM.png"/>
          <p:cNvPicPr/>
          <p:nvPr/>
        </p:nvPicPr>
        <p:blipFill>
          <a:blip r:embed="rId2"/>
          <a:stretch/>
        </p:blipFill>
        <p:spPr>
          <a:xfrm>
            <a:off x="212760" y="4572000"/>
            <a:ext cx="536400" cy="1085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8" descr="Screen Shot 2012-12-06 at 9.40.26 AM.png"/>
          <p:cNvPicPr/>
          <p:nvPr/>
        </p:nvPicPr>
        <p:blipFill>
          <a:blip r:embed="rId3"/>
          <a:stretch/>
        </p:blipFill>
        <p:spPr>
          <a:xfrm>
            <a:off x="822240" y="4572000"/>
            <a:ext cx="500040" cy="963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0" descr="Screen Shot 2012-12-06 at 9.39.25 AM.png"/>
          <p:cNvPicPr/>
          <p:nvPr/>
        </p:nvPicPr>
        <p:blipFill>
          <a:blip r:embed="rId4"/>
          <a:stretch/>
        </p:blipFill>
        <p:spPr>
          <a:xfrm>
            <a:off x="1352520" y="4645080"/>
            <a:ext cx="457200" cy="1042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1" descr="Photo on 12-6-12 at 9.33 AM.jpg"/>
          <p:cNvPicPr/>
          <p:nvPr/>
        </p:nvPicPr>
        <p:blipFill>
          <a:blip r:embed="rId5"/>
          <a:stretch/>
        </p:blipFill>
        <p:spPr>
          <a:xfrm>
            <a:off x="212760" y="5559480"/>
            <a:ext cx="519120" cy="9381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9"/>
          <p:cNvSpPr/>
          <p:nvPr/>
        </p:nvSpPr>
        <p:spPr>
          <a:xfrm>
            <a:off x="152280" y="609588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3" descr="Screen Shot 2012-12-06 at 9.51.17 AM.png"/>
          <p:cNvPicPr/>
          <p:nvPr/>
        </p:nvPicPr>
        <p:blipFill>
          <a:blip r:embed="rId6"/>
          <a:stretch/>
        </p:blipFill>
        <p:spPr>
          <a:xfrm>
            <a:off x="822240" y="5559480"/>
            <a:ext cx="500040" cy="10904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1"/>
          <p:cNvSpPr/>
          <p:nvPr/>
        </p:nvSpPr>
        <p:spPr>
          <a:xfrm>
            <a:off x="838080" y="61722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8" descr="Screen Shot 2012-12-07 at 9.39.59 AM.png"/>
          <p:cNvPicPr/>
          <p:nvPr/>
        </p:nvPicPr>
        <p:blipFill>
          <a:blip r:embed="rId7"/>
          <a:stretch/>
        </p:blipFill>
        <p:spPr>
          <a:xfrm>
            <a:off x="2193840" y="3048120"/>
            <a:ext cx="500040" cy="1145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9" descr="Screen Shot 2012-12-07 at 9.39.59 AM.png"/>
          <p:cNvPicPr/>
          <p:nvPr/>
        </p:nvPicPr>
        <p:blipFill>
          <a:blip r:embed="rId8"/>
          <a:stretch/>
        </p:blipFill>
        <p:spPr>
          <a:xfrm>
            <a:off x="133200" y="457200"/>
            <a:ext cx="1482840" cy="3492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1" descr="Screen Shot 2012-12-06 at 9.51.17 AM.png"/>
          <p:cNvPicPr/>
          <p:nvPr/>
        </p:nvPicPr>
        <p:blipFill>
          <a:blip r:embed="rId9"/>
          <a:stretch/>
        </p:blipFill>
        <p:spPr>
          <a:xfrm>
            <a:off x="2193840" y="3730680"/>
            <a:ext cx="500040" cy="10904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2743200" y="3733920"/>
            <a:ext cx="37339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Tra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e encanta Taylor Swift. Ella es muy bonita. ¡Estoy muy celosa de ella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Noviembre 2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4" descr="Screen Shot 2012-12-07 at 9.39.59 AM.png"/>
          <p:cNvPicPr/>
          <p:nvPr/>
        </p:nvPicPr>
        <p:blipFill>
          <a:blip r:embed="rId10"/>
          <a:stretch/>
        </p:blipFill>
        <p:spPr>
          <a:xfrm>
            <a:off x="2193840" y="4340160"/>
            <a:ext cx="500040" cy="1152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7"/>
          <p:cNvSpPr/>
          <p:nvPr/>
        </p:nvSpPr>
        <p:spPr>
          <a:xfrm>
            <a:off x="2743200" y="4343400"/>
            <a:ext cx="37339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Gabri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ero Tracy, tu también eres muy boni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Noviembre 2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6" descr="Screen Shot 2012-12-06 at 9.39.18 AM.png"/>
          <p:cNvPicPr/>
          <p:nvPr/>
        </p:nvPicPr>
        <p:blipFill>
          <a:blip r:embed="rId11"/>
          <a:stretch/>
        </p:blipFill>
        <p:spPr>
          <a:xfrm>
            <a:off x="2193840" y="4950000"/>
            <a:ext cx="536760" cy="10904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7"/>
          <p:cNvSpPr/>
          <p:nvPr/>
        </p:nvSpPr>
        <p:spPr>
          <a:xfrm>
            <a:off x="2743200" y="4952880"/>
            <a:ext cx="37339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Ja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¡Yo no quiero ir a la escuela mañana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Noviembre 2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0" descr="Screen Shot 2012-12-07 at 9.39.59 AM.png"/>
          <p:cNvPicPr/>
          <p:nvPr/>
        </p:nvPicPr>
        <p:blipFill>
          <a:blip r:embed="rId12"/>
          <a:stretch/>
        </p:blipFill>
        <p:spPr>
          <a:xfrm>
            <a:off x="2193840" y="5559480"/>
            <a:ext cx="500040" cy="11523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7"/>
          <p:cNvSpPr/>
          <p:nvPr/>
        </p:nvSpPr>
        <p:spPr>
          <a:xfrm>
            <a:off x="2743200" y="5562720"/>
            <a:ext cx="37339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Gabri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¡Pero la maestra Andrea va a  traer  su gato manan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a!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Noviembre 2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4:58:43Z</dcterms:modified>
  <cp:revision>115</cp:revision>
  <dc:subject/>
  <dc:title>Profile</dc:title>
</cp:coreProperties>
</file>